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30.jpeg" ContentType="image/jpe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9522-1751-49A5-B154-36CFF312C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6F26-F82D-45B6-BE0F-CE9BCFC5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371C-6990-49D7-9F71-3213B8068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8294-5E1D-4F3D-B98C-FA56849D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7B79-DBB9-4FF1-B666-44536E6D6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9911-9D80-4964-B81F-2F51FADC1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1415-78D6-4434-9A76-5C1823D1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CB38-7F85-440E-9803-B5E8C7E4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B3C8-61DC-402D-A880-6B2210C4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C714-C97C-4A69-BC5E-6D9D240C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B2A3-5E6E-4ACA-9C0A-5FDB8EE8D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37E5-4CB7-445A-9637-3D42B854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5990-04A7-4891-B704-D2F40128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DAAF-6353-4C28-BD59-126B81C1A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8353-04C2-417F-B102-98AEA2EE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153D-B148-481D-87CE-1256EA4D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590C-05FE-422E-831D-C4515D02A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1B2E-B098-4931-A8F2-81107B695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DD56-B842-46F3-A7FB-5B5F92D2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EDCA-7096-4CC2-89FB-8B6FE70D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01F8-C06E-450C-94DA-536A1166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0DD9-E288-420B-BCFF-238D096F5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8512-68F4-42C4-B20F-F5EB81A38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995E-C8CE-4101-B811-82A386DB3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3539-FA61-4F79-83F4-A407BB81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3B5B-DE99-4B96-A52B-F53012F24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CA0A-E6E5-4592-96DD-BDBF8BEED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B3E-B056-4F6E-B9AD-BF12460C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D101-3442-49CC-9ECB-8381CE474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BF9E-725E-4B44-B1AB-7F96E4621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CB95-DA10-41CB-AF86-43F9A392F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6294-184E-41F6-9C08-52E9FAE93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DA14-E218-430F-A5A6-F16DF1B69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1D8D-3B03-4704-AA22-35B3FEC5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00BF-163C-4BC9-894E-D34EDA47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DA20-8459-480B-A6A5-6A8214E41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83C8-4153-4864-8E00-3BB79C034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he player (1) to the CELL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eachers incorporate video clips into their PowerPoints, Word documents, Keynot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permits, I usually demo how easy it is to create a hyperlink and embed video into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563-3843-4906-A927-C676217D8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0238-362A-4D2A-8241-31D6D55D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1687-FCBB-4D23-AF33-CB1D04A5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7D55-144F-4A1A-85E6-674F5AE54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B3B7-8D8D-460B-8B0C-316D93FBF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485A-82A7-475C-9C4B-A23E0D35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036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036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us_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3"/>
          <p:cNvSpPr/>
          <p:nvPr/>
        </p:nvSpPr>
        <p:spPr>
          <a:xfrm>
            <a:off x="228600" y="228600"/>
            <a:ext cx="8686800" cy="5715000"/>
          </a:xfrm>
          <a:prstGeom prst="roundRect">
            <a:avLst>
              <a:gd name="adj" fmla="val 184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4" name="Picture 6" descr="us_icon_small"/>
          <p:cNvPicPr/>
          <p:nvPr/>
        </p:nvPicPr>
        <p:blipFill>
          <a:blip r:embed="rId3"/>
          <a:stretch/>
        </p:blipFill>
        <p:spPr>
          <a:xfrm>
            <a:off x="574560" y="6027840"/>
            <a:ext cx="727200" cy="776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us_logo_whiteSmall"/>
          <p:cNvPicPr/>
          <p:nvPr/>
        </p:nvPicPr>
        <p:blipFill>
          <a:blip r:embed="rId4"/>
          <a:stretch/>
        </p:blipFill>
        <p:spPr>
          <a:xfrm>
            <a:off x="7580160" y="6026040"/>
            <a:ext cx="954360" cy="7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us_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us_icon_small"/>
          <p:cNvPicPr/>
          <p:nvPr/>
        </p:nvPicPr>
        <p:blipFill>
          <a:blip r:embed="rId3"/>
          <a:stretch/>
        </p:blipFill>
        <p:spPr>
          <a:xfrm>
            <a:off x="574560" y="5770440"/>
            <a:ext cx="941400" cy="1005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us_logo_whiteSmall"/>
          <p:cNvPicPr/>
          <p:nvPr/>
        </p:nvPicPr>
        <p:blipFill>
          <a:blip r:embed="rId4"/>
          <a:stretch/>
        </p:blipFill>
        <p:spPr>
          <a:xfrm>
            <a:off x="7427880" y="5770440"/>
            <a:ext cx="1233360" cy="100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unitedstreaming.com/studentCenter/index.cfm?cdCode=WDF46-6FA4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nitedstreaming.com/professionalDevelopment/trainersToolkit/pdf/unitedstreaming%20in%20action%20-%20Closed%20Captioning%20on%20a%20PC.pdf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www.unitedstreaming.com/clickDirector.cfm/type/smi/action/download/media_file_id/1173008/strRealname/Questions_to_Consider.smi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unitedstreaming.com/tools/calendar/index.cf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unitedstreaming.com/studentCenter/index.cfm?cdCode=T1A63-F872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nitedstreaming.com/studentCenter/index.cfm?cdCode=352B-6D17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unitedstreaming.com/studentCenter/index.cfm?cdCode=3488-1B55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50%20Ways/Earliest_Settlers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50 Ways to Integrate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9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iscovery Education</a:t>
            </a:r>
            <a:r>
              <a:rPr b="0" i="1" lang="en-US" sz="4500" spc="-1" strike="noStrike">
                <a:solidFill>
                  <a:srgbClr val="ffffff"/>
                </a:solidFill>
                <a:latin typeface="Arial"/>
              </a:rPr>
              <a:t> streaming</a:t>
            </a:r>
            <a:endParaRPr b="0" lang="en-US" sz="45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762120" y="4114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t Monjan</a:t>
            </a:r>
            <a:br>
              <a:rPr sz="28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scovery Educator Net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80880" y="548640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Really Embedding Continued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7200" y="12952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lick on the Hammer And Wrench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5181840" cy="344520"/>
          </a:xfrm>
          <a:prstGeom prst="rect">
            <a:avLst/>
          </a:prstGeom>
          <a:ln w="0">
            <a:noFill/>
          </a:ln>
        </p:spPr>
      </p:pic>
      <p:sp>
        <p:nvSpPr>
          <p:cNvPr id="127" name="Oval 6"/>
          <p:cNvSpPr/>
          <p:nvPr/>
        </p:nvSpPr>
        <p:spPr>
          <a:xfrm>
            <a:off x="5334120" y="1676520"/>
            <a:ext cx="5331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57200" y="2362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Scroll down and choose Windows Media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3048120" cy="2151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990720" y="2971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change your cursor to a + symbol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ing you the ability to draw a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Really Embedding Continued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Draw a box and then right-click on the box and choo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3828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Almost there…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Click inside the blank box next to the box title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click on the three littl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971800" cy="441936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 flipH="1">
            <a:off x="6400440" y="2057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6095880" y="19810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WindowsMediaPlayer1" descr=""/>
          <p:cNvPicPr/>
          <p:nvPr/>
        </p:nvPicPr>
        <p:blipFill>
          <a:blip r:embed="rId2"/>
          <a:stretch/>
        </p:blipFill>
        <p:spPr>
          <a:xfrm>
            <a:off x="4038480" y="533520"/>
            <a:ext cx="4572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Finding the video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lick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 to find the video that you want to embed, then che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tch to 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 and then click on the OK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457880" cy="39621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486400" y="2590920"/>
            <a:ext cx="76212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286000" y="4267080"/>
            <a:ext cx="10666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191120" y="5562720"/>
            <a:ext cx="6858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Voila!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w embedded a video with controls like fast forward, rewind, pause, etc – play your PPT to see the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indowsMediaPlayer1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unitedstreaming Audio – Song + Power Point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47920" y="36576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304920" y="10666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treaming has close to 400 elementary school songs on the site. To find them change the Within Drop Down box to Songs and click on the “Go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4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57150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5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1447920" cy="1542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6"/>
          <p:cNvSpPr/>
          <p:nvPr/>
        </p:nvSpPr>
        <p:spPr>
          <a:xfrm>
            <a:off x="304920" y="2971800"/>
            <a:ext cx="304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song (right-click, “save target as” on PC or ctl + click on Mac) and insert it into your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7" descr=""/>
          <p:cNvPicPr/>
          <p:nvPr/>
        </p:nvPicPr>
        <p:blipFill>
          <a:blip r:embed="rId3"/>
          <a:stretch/>
        </p:blipFill>
        <p:spPr>
          <a:xfrm>
            <a:off x="3352680" y="2590920"/>
            <a:ext cx="5410440" cy="2493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8"/>
          <p:cNvSpPr/>
          <p:nvPr/>
        </p:nvSpPr>
        <p:spPr>
          <a:xfrm>
            <a:off x="380880" y="45720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dd in DE streaming Images or create your own and ad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urnal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ing Prompt Builde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located in the Teacher Center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58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>
            <a:hlinkClick r:id="rId2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Suppor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lose Captioning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61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Why use Close Captioning in the classroom?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students who are hearing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E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struggling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mphasize a grammar or vocabulary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in combination with a writing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inforce a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Finding CC files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into unitedstreaming.com and click o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Sear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ll down and click in the box next to “Include only Closed Captioned Tit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561080" cy="1209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4267080" y="2971800"/>
            <a:ext cx="914400" cy="30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1676520" y="4572000"/>
            <a:ext cx="55623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rcRect l="8594" t="16131" r="34376" b="8150"/>
          <a:stretch/>
        </p:blipFill>
        <p:spPr>
          <a:xfrm>
            <a:off x="2209680" y="1295280"/>
            <a:ext cx="4660920" cy="4496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65b2"/>
                </a:solidFill>
                <a:latin typeface="Arial"/>
              </a:rPr>
              <a:t>Professional Development &gt; Trainer’s Toolkit &gt; Integration Ideas</a:t>
            </a:r>
            <a:endParaRPr b="0" lang="en-US" sz="2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733920" y="4191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Downloading a Closed Captioned Movie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ight-click on the blue download icon, choose “Save Target As” and then place it in a folder on you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repeat the process, this time right-clicking on the “CC”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the CC settings within your Windows Media Player –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C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7543800" y="1219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con_c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00240"/>
            <a:ext cx="6094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d Captioning Tr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CC file in a text editing program like Wordpad or Note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line of code that indicates “font siz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font size from 10 to 30 (or whatever you pre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CC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c trick 3"/>
          <p:cNvPicPr/>
          <p:nvPr/>
        </p:nvPicPr>
        <p:blipFill>
          <a:blip r:embed="rId1"/>
          <a:stretch/>
        </p:blipFill>
        <p:spPr>
          <a:xfrm>
            <a:off x="5029200" y="982800"/>
            <a:ext cx="3733920" cy="2751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c trick 4"/>
          <p:cNvPicPr/>
          <p:nvPr/>
        </p:nvPicPr>
        <p:blipFill>
          <a:blip r:embed="rId2"/>
          <a:stretch/>
        </p:blipFill>
        <p:spPr>
          <a:xfrm>
            <a:off x="5334120" y="4267080"/>
            <a:ext cx="3047760" cy="851040"/>
          </a:xfrm>
          <a:prstGeom prst="rect">
            <a:avLst/>
          </a:prstGeom>
          <a:ln w="0">
            <a:noFill/>
          </a:ln>
        </p:spPr>
      </p:pic>
      <p:sp>
        <p:nvSpPr>
          <p:cNvPr id="178" name="Line 6"/>
          <p:cNvSpPr/>
          <p:nvPr/>
        </p:nvSpPr>
        <p:spPr>
          <a:xfrm>
            <a:off x="6324480" y="228600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80" name="Picture 3" descr="cc trick 5"/>
          <p:cNvPicPr/>
          <p:nvPr/>
        </p:nvPicPr>
        <p:blipFill>
          <a:blip r:embed="rId1"/>
          <a:stretch/>
        </p:blipFill>
        <p:spPr>
          <a:xfrm>
            <a:off x="533520" y="1295280"/>
            <a:ext cx="4527360" cy="3092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c trick 6"/>
          <p:cNvPicPr/>
          <p:nvPr/>
        </p:nvPicPr>
        <p:blipFill>
          <a:blip r:embed="rId2"/>
          <a:stretch/>
        </p:blipFill>
        <p:spPr>
          <a:xfrm>
            <a:off x="1357200" y="2133720"/>
            <a:ext cx="1981440" cy="136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c trick 7"/>
          <p:cNvPicPr/>
          <p:nvPr/>
        </p:nvPicPr>
        <p:blipFill>
          <a:blip r:embed="rId3"/>
          <a:stretch/>
        </p:blipFill>
        <p:spPr>
          <a:xfrm>
            <a:off x="4097160" y="2503440"/>
            <a:ext cx="4589640" cy="313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c trick 6"/>
          <p:cNvPicPr/>
          <p:nvPr/>
        </p:nvPicPr>
        <p:blipFill>
          <a:blip r:embed="rId4"/>
          <a:stretch/>
        </p:blipFill>
        <p:spPr>
          <a:xfrm>
            <a:off x="5029200" y="3352680"/>
            <a:ext cx="1981080" cy="1362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828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943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87" name="Picture 3" descr="cc trick 8"/>
          <p:cNvPicPr/>
          <p:nvPr/>
        </p:nvPicPr>
        <p:blipFill>
          <a:blip r:embed="rId1"/>
          <a:stretch/>
        </p:blipFill>
        <p:spPr>
          <a:xfrm>
            <a:off x="3048120" y="1787400"/>
            <a:ext cx="5638680" cy="3851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c trick 6"/>
          <p:cNvPicPr/>
          <p:nvPr/>
        </p:nvPicPr>
        <p:blipFill>
          <a:blip r:embed="rId2"/>
          <a:stretch/>
        </p:blipFill>
        <p:spPr>
          <a:xfrm>
            <a:off x="4419720" y="2981160"/>
            <a:ext cx="1981080" cy="1362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cc trick 9"/>
          <p:cNvPicPr/>
          <p:nvPr/>
        </p:nvPicPr>
        <p:blipFill>
          <a:blip r:embed="rId3"/>
          <a:srcRect l="0" t="0" r="8844" b="0"/>
          <a:stretch/>
        </p:blipFill>
        <p:spPr>
          <a:xfrm>
            <a:off x="457200" y="1219320"/>
            <a:ext cx="5183280" cy="145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day is Your Birthda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lendar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cated in the Teacher Center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91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>
            <a:hlinkClick r:id="rId2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ignment Builde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located in the Teacher Center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94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>
            <a:hlinkClick r:id="rId2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phic Organiz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ols like Inspiration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197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Embed Discovery Education streaming videos, sounds, songs and more in Inspiration 8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52480" y="1249200"/>
            <a:ext cx="57913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cycloped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oose Articles from Within Box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02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2895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rticles from the Within Box and click on the Go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ready for another cool trick with PP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3341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media Presentations</a:t>
            </a:r>
            <a:endParaRPr b="0" lang="en-US" sz="44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97" name="Picture 6" descr="Fly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>
            <a:hlinkClick r:id="rId3" action="ppaction://hlinksldjump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Recording Sound with PPT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ord Insert in your Tool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Movies and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Record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d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cord your students narrating the encyclopedia article that you round in DE 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3562200" cy="4038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2828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iz Builde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cated in the Teacher Center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11" name="Picture 3" descr="Fly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>
            <a:hlinkClick r:id="rId3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i-Movi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Movie, MovieMaker, etc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14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Stations</a:t>
            </a:r>
            <a:endParaRPr b="0" lang="en-US" sz="44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17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20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>
            <a:hlinkClick r:id="" action="ppaction://hlinkshowjump?jump=nextslide"/>
          </p:cNvPr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rcRect l="10938" t="19896" r="14065" b="4303"/>
          <a:stretch/>
        </p:blipFill>
        <p:spPr>
          <a:xfrm>
            <a:off x="2209680" y="903240"/>
            <a:ext cx="5029200" cy="369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rcRect l="11715" t="36037" r="17197" b="12916"/>
          <a:stretch/>
        </p:blipFill>
        <p:spPr>
          <a:xfrm>
            <a:off x="380880" y="1208160"/>
            <a:ext cx="1600200" cy="83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5" descr=""/>
          <p:cNvPicPr/>
          <p:nvPr/>
        </p:nvPicPr>
        <p:blipFill>
          <a:blip r:embed="rId3"/>
          <a:srcRect l="11721" t="37100" r="38281" b="11290"/>
          <a:stretch/>
        </p:blipFill>
        <p:spPr>
          <a:xfrm>
            <a:off x="6858000" y="369720"/>
            <a:ext cx="1676520" cy="12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6" descr=""/>
          <p:cNvPicPr/>
          <p:nvPr/>
        </p:nvPicPr>
        <p:blipFill>
          <a:blip r:embed="rId4"/>
          <a:srcRect l="30470" t="20968" r="30470" b="8602"/>
          <a:stretch/>
        </p:blipFill>
        <p:spPr>
          <a:xfrm>
            <a:off x="609480" y="2732040"/>
            <a:ext cx="130824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Picture 7" descr=""/>
          <p:cNvPicPr/>
          <p:nvPr/>
        </p:nvPicPr>
        <p:blipFill>
          <a:blip r:embed="rId5"/>
          <a:stretch/>
        </p:blipFill>
        <p:spPr>
          <a:xfrm>
            <a:off x="6781680" y="2351160"/>
            <a:ext cx="1828800" cy="132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Picture 8" descr=""/>
          <p:cNvPicPr/>
          <p:nvPr/>
        </p:nvPicPr>
        <p:blipFill>
          <a:blip r:embed="rId6"/>
          <a:srcRect l="14844" t="68286" r="36720" b="11828"/>
          <a:stretch/>
        </p:blipFill>
        <p:spPr>
          <a:xfrm>
            <a:off x="5562720" y="4713120"/>
            <a:ext cx="2438280" cy="7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Picture 9" descr=""/>
          <p:cNvPicPr/>
          <p:nvPr/>
        </p:nvPicPr>
        <p:blipFill>
          <a:blip r:embed="rId7"/>
          <a:srcRect l="12504" t="15059" r="13281" b="4299"/>
          <a:stretch/>
        </p:blipFill>
        <p:spPr>
          <a:xfrm>
            <a:off x="2133720" y="4789440"/>
            <a:ext cx="1752480" cy="138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Line 10"/>
          <p:cNvSpPr/>
          <p:nvPr/>
        </p:nvSpPr>
        <p:spPr>
          <a:xfrm flipH="1">
            <a:off x="1980720" y="3189240"/>
            <a:ext cx="304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2514600" y="4484520"/>
            <a:ext cx="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5257800" y="4560840"/>
            <a:ext cx="22860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 flipV="1">
            <a:off x="5410080" y="1588680"/>
            <a:ext cx="129564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 flipV="1">
            <a:off x="5638680" y="3036600"/>
            <a:ext cx="99072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 flipH="1" flipV="1">
            <a:off x="2057040" y="2122560"/>
            <a:ext cx="152280" cy="3045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tual Field Trip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oogle Earth and unitedstreaming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36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m Festiva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merican Film Institute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39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lture Club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scovery Interactive Atlas)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42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Explore your world with out leaving your classroom!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833840" cy="2971800"/>
          </a:xfrm>
          <a:prstGeom prst="rect">
            <a:avLst/>
          </a:prstGeom>
          <a:ln w="0">
            <a:noFill/>
          </a:ln>
        </p:spPr>
      </p:pic>
      <p:sp>
        <p:nvSpPr>
          <p:cNvPr id="246" name="Oval 4"/>
          <p:cNvSpPr/>
          <p:nvPr/>
        </p:nvSpPr>
        <p:spPr>
          <a:xfrm>
            <a:off x="304920" y="2438280"/>
            <a:ext cx="190476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6389640" cy="380376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1981080" y="5257800"/>
            <a:ext cx="19051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2590920" y="1295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Atlas as an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PowerPoint and Multi-Media Presentations 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335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ke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6dbf"/>
                </a:solidFill>
                <a:latin typeface="Arial"/>
              </a:rPr>
              <a:t>Hyperl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inking to a website, video, document or slide that is different or outside of  your curre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 forward/rewi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pens a different window, you leave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6dbf"/>
                </a:solidFill>
                <a:latin typeface="Arial"/>
              </a:rPr>
              <a:t>Embed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lacing a document, video, sound, image, etc within the framework of you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oks pretty, you stay within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se ability to fast forward and re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age Your Studen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 you use it for?</a:t>
            </a:r>
            <a:endParaRPr b="0" lang="en-US" sz="4000" spc="-1" strike="noStrike">
              <a:solidFill>
                <a:srgbClr val="0365b2"/>
              </a:solidFill>
              <a:latin typeface="Arial"/>
            </a:endParaRPr>
          </a:p>
        </p:txBody>
      </p:sp>
      <p:pic>
        <p:nvPicPr>
          <p:cNvPr id="252" name="Picture 3" descr="Fly2"/>
          <p:cNvPicPr/>
          <p:nvPr/>
        </p:nvPicPr>
        <p:blipFill>
          <a:blip r:embed="rId1"/>
          <a:stretch/>
        </p:blipFill>
        <p:spPr>
          <a:xfrm>
            <a:off x="533520" y="380880"/>
            <a:ext cx="1447560" cy="1263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590400" y="501480"/>
            <a:ext cx="12956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 Monjan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_monjan@discovery.com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very Educa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tream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discoveryeducation.com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very Educator Network (DE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dencommunity.com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80880" y="548640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Instructions for Hyperlinking and Embedding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88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yperlinking to a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Embedding a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eally Embedding a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Images +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Steps for Hyperlinking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into unitedstre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a video, segment, image, so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som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the text “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m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cated in your tool 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bottom and select Hyper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file that you downloaded and sel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e it can be within the same Power Poin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>
            <a:hlinkClick r:id="" action="ppaction://hlinkshowjump?jump=previousslide"/>
          </p:cNvPr>
          <p:cNvSpPr/>
          <p:nvPr/>
        </p:nvSpPr>
        <p:spPr>
          <a:xfrm>
            <a:off x="380880" y="5486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Steps for Embedding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up to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es and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e from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e to the file that you down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838080" y="5486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65b2"/>
                </a:solidFill>
                <a:latin typeface="Arial"/>
              </a:rPr>
              <a:t>Example of Video + Power Point</a:t>
            </a:r>
            <a:endParaRPr b="0" lang="en-US" sz="32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00600" y="1142640"/>
            <a:ext cx="4038480" cy="4343400"/>
          </a:xfrm>
          <a:prstGeom prst="rect">
            <a:avLst/>
          </a:prstGeom>
          <a:noFill/>
          <a:ln w="19080">
            <a:solidFill>
              <a:srgbClr val="00599b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with three of your classmates, draw a map of your school – without leaving your classroo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your exploration of your school and its grounds, draw at least 10 items/areas that you find along your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get back draw a time line of your adventure- make sure that you include significant events that you encountered along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838080" y="5486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73392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65b2"/>
                </a:solidFill>
                <a:latin typeface="Arial"/>
              </a:rPr>
              <a:t>Now for something really cool</a:t>
            </a:r>
            <a:endParaRPr b="0" lang="en-US" sz="2800" spc="-1" strike="noStrike">
              <a:solidFill>
                <a:srgbClr val="0365b2"/>
              </a:solidFill>
              <a:latin typeface="Arial"/>
            </a:endParaRPr>
          </a:p>
        </p:txBody>
      </p:sp>
      <p:sp>
        <p:nvSpPr>
          <p:cNvPr id="114" name="AutoShape 4">
            <a:hlinkClick r:id="rId1" action="ppaction://hlinksldjump"/>
          </p:cNvPr>
          <p:cNvSpPr/>
          <p:nvPr/>
        </p:nvSpPr>
        <p:spPr>
          <a:xfrm>
            <a:off x="838080" y="5486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029200" y="4572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6dbf"/>
                </a:solidFill>
                <a:latin typeface="Arial"/>
              </a:rPr>
              <a:t>Really Embedding – PC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1371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Go to your tool bar and click on the word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162920" cy="336600"/>
          </a:xfrm>
          <a:prstGeom prst="rect">
            <a:avLst/>
          </a:prstGeom>
          <a:ln w="0">
            <a:noFill/>
          </a:ln>
        </p:spPr>
      </p:pic>
      <p:sp>
        <p:nvSpPr>
          <p:cNvPr id="118" name="Oval 11"/>
          <p:cNvSpPr/>
          <p:nvPr/>
        </p:nvSpPr>
        <p:spPr>
          <a:xfrm>
            <a:off x="2209680" y="167652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33520" y="2590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Click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b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1619280" cy="318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"/>
          <p:cNvPicPr/>
          <p:nvPr/>
        </p:nvPicPr>
        <p:blipFill>
          <a:blip r:embed="rId4"/>
          <a:stretch/>
        </p:blipFill>
        <p:spPr>
          <a:xfrm>
            <a:off x="7315200" y="2514600"/>
            <a:ext cx="1523880" cy="3333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7"/>
          <p:cNvSpPr/>
          <p:nvPr/>
        </p:nvSpPr>
        <p:spPr>
          <a:xfrm>
            <a:off x="457200" y="33526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ring up a box that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"/>
          <p:cNvPicPr/>
          <p:nvPr/>
        </p:nvPicPr>
        <p:blipFill>
          <a:blip r:embed="rId5"/>
          <a:stretch/>
        </p:blipFill>
        <p:spPr>
          <a:xfrm>
            <a:off x="380880" y="3886200"/>
            <a:ext cx="518184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6:14:03Z</dcterms:created>
  <dc:creator>Scott Kinney</dc:creator>
  <dc:description/>
  <dc:language>en-US</dc:language>
  <cp:lastModifiedBy> </cp:lastModifiedBy>
  <dcterms:modified xsi:type="dcterms:W3CDTF">2008-02-10T19:46:32Z</dcterms:modified>
  <cp:revision>131</cp:revision>
  <dc:subject/>
  <dc:title>Overview for Presenter: DELETE or HIDE this slide</dc:title>
</cp:coreProperties>
</file>